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media/driveby.wav" ContentType="audio/x-wav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EFB9-CA83-446B-BB17-85839D4D0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5919-FE80-4F48-94C1-01F396F1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38FB-FD77-42D0-8CD9-8D1BB4D18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78C7-3EC9-464B-A18F-68E593C5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08FA-2055-4AB8-8AC8-AE8E185D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9959-F2DC-4FC8-AA7A-1E1B7163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0517-EBE9-4ADA-96EE-6E2433D0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05F4-DC13-408F-9B01-0B74B84C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2293-CB22-456F-9C83-ECD2A6C6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07B9-B391-4B11-B07F-ADE0D410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57BE-AC23-4103-ADC8-22C2E3DC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1BD9-AC88-48E6-8679-C54820F3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B748-69B1-4AC3-9E8B-09D4B2EA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9DB9-6B5F-4BE4-B2DC-A49FA8FD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EBBF-1050-413B-B98E-1E90358C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5DE9-1D76-4EBD-BDFC-62B8168D7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4D41-280E-4EBE-86E6-CD7823F09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F9FA-2BB5-48E7-A53A-FA21E95F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BA29-9496-4BFD-B5FB-1D8298C1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3A1D-CA30-4472-BDA3-00DDEBF7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D4AD-88FA-4B02-AF1B-A7523AE3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77DA-2A32-4C6A-8205-89881587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B1C3-EC4A-48BD-8B27-7B003521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83C1-A77B-412E-A9AF-D58172D8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83B6-A263-4628-B112-FD45EDED7522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6034-7C83-4612-A173-1D75DD1BDCD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audio" Target="../media/chimes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C:\WINDOWS\CALC.EXE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001000" cy="1981440"/>
          </a:xfrm>
          <a:prstGeom prst="rect">
            <a:avLst/>
          </a:prstGeom>
          <a:solidFill>
            <a:srgbClr val="bdd7e5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04c2b"/>
                </a:solidFill>
                <a:latin typeface="Tahoma"/>
              </a:rPr>
              <a:t>Настройване на презентация</a:t>
            </a:r>
            <a:br>
              <a:rPr sz="4800"/>
            </a:b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	</a:t>
            </a: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	</a:t>
            </a: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Командите за управление на цялата презентация се намират в менюто </a:t>
            </a:r>
            <a:r>
              <a:rPr b="1" i="1" lang="en-US" sz="3200" spc="-1" strike="noStrike">
                <a:solidFill>
                  <a:srgbClr val="333333"/>
                </a:solidFill>
                <a:latin typeface="Tahoma"/>
              </a:rPr>
              <a:t>Slide Show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bg-BG" sz="4400" spc="-1" strike="noStrike">
                <a:solidFill>
                  <a:srgbClr val="004c2b"/>
                </a:solidFill>
                <a:latin typeface="Tahoma"/>
              </a:rPr>
              <a:t>Репетиране на времето</a:t>
            </a:r>
            <a:r>
              <a:rPr b="0" lang="bg-BG" sz="4400" spc="-1" strike="noStrike">
                <a:solidFill>
                  <a:srgbClr val="004c2b"/>
                </a:solidFill>
                <a:latin typeface="Tahom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	</a:t>
            </a: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	</a:t>
            </a: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С </a:t>
            </a:r>
            <a:r>
              <a:rPr b="1" lang="en-US" sz="3200" spc="-1" strike="noStrike">
                <a:solidFill>
                  <a:srgbClr val="333333"/>
                </a:solidFill>
                <a:latin typeface="Tahoma"/>
              </a:rPr>
              <a:t>Rehearse Timings</a:t>
            </a: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се проиграва презентацията с цел да настроим точната продължителност на отделните слайдове и на цялата презентаци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4c2b"/>
                </a:solidFill>
                <a:latin typeface="Tahoma"/>
              </a:rPr>
              <a:t>Настройки в </a:t>
            </a:r>
            <a:r>
              <a:rPr b="1" lang="en-US" sz="4800" spc="-1" strike="noStrike" u="sng">
                <a:solidFill>
                  <a:srgbClr val="004c2b"/>
                </a:solidFill>
                <a:uFillTx/>
                <a:latin typeface="Tahoma"/>
              </a:rPr>
              <a:t>Setup Show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В </a:t>
            </a:r>
            <a:r>
              <a:rPr b="1" lang="en-US" sz="3200" spc="-1" strike="noStrike">
                <a:solidFill>
                  <a:srgbClr val="333333"/>
                </a:solidFill>
                <a:latin typeface="Tahoma"/>
              </a:rPr>
              <a:t>Setup Show</a:t>
            </a: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можем да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изберем кои слайдове ще се показва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направим презентацията безкрайн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изберем представянето да е на цял екран или в отделен прозорец  и др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4c2b"/>
                </a:solidFill>
                <a:uFillTx/>
                <a:latin typeface="Tahoma"/>
              </a:rPr>
              <a:t>Custom Shows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534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	</a:t>
            </a: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	</a:t>
            </a: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Създава различни презентации, в които може да участват само част от слайдовете на основната презентация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04c2b"/>
                </a:solidFill>
                <a:latin typeface="Tahoma"/>
              </a:rPr>
              <a:t>Показване на презентация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Slide Show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View show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Прекъсване - с клавиш </a:t>
            </a:r>
            <a:r>
              <a:rPr b="1" lang="en-US" sz="3200" spc="-1" strike="noStrike">
                <a:solidFill>
                  <a:srgbClr val="333333"/>
                </a:solidFill>
                <a:latin typeface="Tahoma"/>
              </a:rPr>
              <a:t>Esc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4c2b"/>
                </a:solidFill>
                <a:latin typeface="Times New Roman"/>
              </a:rPr>
              <a:t>АНИМАЦИЯ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742840" y="3123720"/>
            <a:ext cx="5715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333333"/>
                </a:solidFill>
                <a:latin typeface="Times New Roman"/>
              </a:rPr>
              <a:t>между слайдовете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333333"/>
                </a:solidFill>
                <a:latin typeface="Times New Roman"/>
              </a:rPr>
              <a:t>в слайдовете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1523880" y="3276720"/>
            <a:ext cx="609840" cy="30456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26" h="21600">
                <a:moveTo>
                  <a:pt x="0" y="0"/>
                </a:moveTo>
                <a:lnTo>
                  <a:pt x="43226" y="0"/>
                </a:lnTo>
                <a:lnTo>
                  <a:pt x="43226" y="21600"/>
                </a:lnTo>
                <a:lnTo>
                  <a:pt x="0" y="21600"/>
                </a:lnTo>
                <a:close/>
              </a:path>
              <a:path fill="lightenLess" w="43226" h="21600">
                <a:moveTo>
                  <a:pt x="0" y="0"/>
                </a:moveTo>
                <a:lnTo>
                  <a:pt x="43226" y="0"/>
                </a:lnTo>
                <a:lnTo>
                  <a:pt x="41826" y="1400"/>
                </a:lnTo>
                <a:lnTo>
                  <a:pt x="1400" y="1400"/>
                </a:lnTo>
                <a:close/>
              </a:path>
              <a:path fill="darken" w="43226" h="21600">
                <a:moveTo>
                  <a:pt x="43226" y="0"/>
                </a:moveTo>
                <a:lnTo>
                  <a:pt x="43226" y="21600"/>
                </a:lnTo>
                <a:lnTo>
                  <a:pt x="41826" y="20200"/>
                </a:lnTo>
                <a:lnTo>
                  <a:pt x="41826" y="1400"/>
                </a:lnTo>
                <a:close/>
              </a:path>
              <a:path fill="darkenLess" w="43226" h="21600">
                <a:moveTo>
                  <a:pt x="43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26" y="20200"/>
                </a:lnTo>
                <a:close/>
              </a:path>
              <a:path fill="lighten" w="43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26" h="21600">
                <a:moveTo>
                  <a:pt x="14606" y="3794"/>
                </a:moveTo>
                <a:lnTo>
                  <a:pt x="28619" y="10800"/>
                </a:lnTo>
                <a:lnTo>
                  <a:pt x="14606" y="17806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1523880" y="457200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3794"/>
                </a:moveTo>
                <a:lnTo>
                  <a:pt x="28594" y="10800"/>
                </a:lnTo>
                <a:lnTo>
                  <a:pt x="14581" y="17806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lastslide"/>
          </p:cNvPr>
          <p:cNvSpPr/>
          <p:nvPr/>
        </p:nvSpPr>
        <p:spPr>
          <a:xfrm>
            <a:off x="7620120" y="6248520"/>
            <a:ext cx="914400" cy="304560"/>
          </a:xfrm>
          <a:custGeom>
            <a:avLst/>
            <a:gdLst>
              <a:gd name="textAreaLeft" fmla="*/ 19440 w 914400"/>
              <a:gd name="textAreaRight" fmla="*/ 894960 w 9144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00" h="21600">
                <a:moveTo>
                  <a:pt x="35899" y="10800"/>
                </a:moveTo>
                <a:lnTo>
                  <a:pt x="25394" y="17806"/>
                </a:lnTo>
                <a:lnTo>
                  <a:pt x="25394" y="3794"/>
                </a:lnTo>
                <a:close/>
              </a:path>
              <a:path fill="darken" w="64800" h="21600">
                <a:moveTo>
                  <a:pt x="37744" y="3794"/>
                </a:moveTo>
                <a:lnTo>
                  <a:pt x="37744" y="17806"/>
                </a:lnTo>
                <a:lnTo>
                  <a:pt x="39406" y="17806"/>
                </a:lnTo>
                <a:lnTo>
                  <a:pt x="39406" y="3794"/>
                </a:lnTo>
                <a:close/>
              </a:path>
            </a:pathLst>
          </a:custGeom>
          <a:gradFill rotWithShape="0">
            <a:gsLst>
              <a:gs pos="0">
                <a:srgbClr val="993300"/>
              </a:gs>
              <a:gs pos="50000">
                <a:srgbClr val="a9bda9"/>
              </a:gs>
              <a:gs pos="100000">
                <a:srgbClr val="993300"/>
              </a:gs>
            </a:gsLst>
            <a:lin ang="8100000"/>
          </a:gradFill>
          <a:ln cap="sq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81680" y="6232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333333"/>
                </a:solidFill>
                <a:latin typeface="Times New Roman"/>
              </a:rPr>
              <a:t>КРАЙ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75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75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75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5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75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75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75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75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95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4c2b"/>
                </a:solidFill>
                <a:latin typeface="Times New Roman"/>
              </a:rPr>
              <a:t>МЕЖДУ СЛАЙДОВЕТЕ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743200" y="1828800"/>
          <a:ext cx="287496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1828800"/>
                    <a:ext cx="28749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228600" y="4114800"/>
            <a:ext cx="2438280" cy="1066680"/>
          </a:xfrm>
          <a:prstGeom prst="wedgeEllipseCallout">
            <a:avLst>
              <a:gd name="adj1" fmla="val 52277"/>
              <a:gd name="adj2" fmla="val -237796"/>
            </a:avLst>
          </a:prstGeom>
          <a:solidFill>
            <a:srgbClr val="ffcc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993300"/>
                </a:solidFill>
                <a:latin typeface="Times New Roman"/>
              </a:rPr>
              <a:t>От менюто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 Narrow"/>
              </a:rPr>
              <a:t>Slide Show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2209680"/>
            <a:ext cx="3047760" cy="1752840"/>
          </a:xfrm>
          <a:prstGeom prst="wedgeEllipseCallout">
            <a:avLst>
              <a:gd name="adj1" fmla="val -60365"/>
              <a:gd name="adj2" fmla="val 116759"/>
            </a:avLst>
          </a:prstGeom>
          <a:solidFill>
            <a:srgbClr val="ffcc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993300"/>
                </a:solidFill>
                <a:latin typeface="Times New Roman"/>
              </a:rPr>
              <a:t>Изберете команда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 Narrow"/>
              </a:rPr>
              <a:t>Slide Transi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813040" y="1676520"/>
            <a:ext cx="2359080" cy="46479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4c2b"/>
                </a:solidFill>
                <a:latin typeface="Times New Roman"/>
              </a:rPr>
              <a:t>Добавяне на ефект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2209680"/>
            <a:ext cx="1981440" cy="1295640"/>
          </a:xfrm>
          <a:prstGeom prst="wedgeRoundRectCallout">
            <a:avLst>
              <a:gd name="adj1" fmla="val -149120"/>
              <a:gd name="adj2" fmla="val -17768"/>
              <a:gd name="adj3" fmla="val 16667"/>
            </a:avLst>
          </a:prstGeom>
          <a:solidFill>
            <a:srgbClr val="ffcc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993300"/>
                </a:solidFill>
                <a:latin typeface="Times New Roman"/>
              </a:rPr>
              <a:t>Изберете ефект при смяна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600200"/>
            <a:ext cx="2133360" cy="1219320"/>
          </a:xfrm>
          <a:prstGeom prst="wedgeRoundRectCallout">
            <a:avLst>
              <a:gd name="adj1" fmla="val 77009"/>
              <a:gd name="adj2" fmla="val 120050"/>
              <a:gd name="adj3" fmla="val 16667"/>
            </a:avLst>
          </a:prstGeom>
          <a:solidFill>
            <a:srgbClr val="ffcc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993300"/>
                </a:solidFill>
                <a:latin typeface="Times New Roman"/>
              </a:rPr>
              <a:t>Изберете скорост при смяна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4343400"/>
            <a:ext cx="2362320" cy="1371600"/>
          </a:xfrm>
          <a:prstGeom prst="wedgeRoundRectCallout">
            <a:avLst>
              <a:gd name="adj1" fmla="val 64652"/>
              <a:gd name="adj2" fmla="val -20370"/>
              <a:gd name="adj3" fmla="val 16667"/>
            </a:avLst>
          </a:prstGeom>
          <a:solidFill>
            <a:srgbClr val="ffcc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993300"/>
                </a:solidFill>
                <a:latin typeface="Times New Roman"/>
              </a:rPr>
              <a:t>Кога да се яви следващия слайд?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60948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gradFill rotWithShape="0">
            <a:gsLst>
              <a:gs pos="0">
                <a:srgbClr val="9e0a34"/>
              </a:gs>
              <a:gs pos="50000">
                <a:srgbClr val="a9bda9"/>
              </a:gs>
              <a:gs pos="100000">
                <a:srgbClr val="9e0a34"/>
              </a:gs>
            </a:gsLst>
            <a:lin ang="13500000"/>
          </a:gradFill>
          <a:ln cap="sq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60199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333333"/>
                </a:solidFill>
                <a:latin typeface="Times New Roman"/>
              </a:rPr>
              <a:t>Върни се в АНИМАЦИЯ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lastslide"/>
          </p:cNvPr>
          <p:cNvSpPr/>
          <p:nvPr/>
        </p:nvSpPr>
        <p:spPr>
          <a:xfrm>
            <a:off x="7772400" y="6248520"/>
            <a:ext cx="914400" cy="304560"/>
          </a:xfrm>
          <a:custGeom>
            <a:avLst/>
            <a:gdLst>
              <a:gd name="textAreaLeft" fmla="*/ 19440 w 914400"/>
              <a:gd name="textAreaRight" fmla="*/ 894960 w 9144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00" h="21600">
                <a:moveTo>
                  <a:pt x="35899" y="10800"/>
                </a:moveTo>
                <a:lnTo>
                  <a:pt x="25394" y="17806"/>
                </a:lnTo>
                <a:lnTo>
                  <a:pt x="25394" y="3794"/>
                </a:lnTo>
                <a:close/>
              </a:path>
              <a:path fill="darken" w="64800" h="21600">
                <a:moveTo>
                  <a:pt x="37744" y="3794"/>
                </a:moveTo>
                <a:lnTo>
                  <a:pt x="37744" y="17806"/>
                </a:lnTo>
                <a:lnTo>
                  <a:pt x="39406" y="17806"/>
                </a:lnTo>
                <a:lnTo>
                  <a:pt x="39406" y="3794"/>
                </a:lnTo>
                <a:close/>
              </a:path>
            </a:pathLst>
          </a:custGeom>
          <a:gradFill rotWithShape="0">
            <a:gsLst>
              <a:gs pos="0">
                <a:srgbClr val="993300"/>
              </a:gs>
              <a:gs pos="50000">
                <a:srgbClr val="a9bda9"/>
              </a:gs>
              <a:gs pos="100000">
                <a:srgbClr val="993300"/>
              </a:gs>
            </a:gsLst>
            <a:lin ang="8100000"/>
          </a:gradFill>
          <a:ln cap="sq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6232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333333"/>
                </a:solidFill>
                <a:latin typeface="Times New Roman"/>
              </a:rPr>
              <a:t>КРАЙ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7208400">
            <a:off x="5655600" y="3773520"/>
            <a:ext cx="609480" cy="2438280"/>
          </a:xfrm>
          <a:prstGeom prst="wedgeRoundRectCallout">
            <a:avLst>
              <a:gd name="adj1" fmla="val 4893"/>
              <a:gd name="adj2" fmla="val 82074"/>
              <a:gd name="adj3" fmla="val 16667"/>
            </a:avLst>
          </a:prstGeom>
          <a:solidFill>
            <a:srgbClr val="ffcc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996633"/>
                </a:solidFill>
                <a:latin typeface="Times New Roman"/>
              </a:rPr>
              <a:t>Изберете звук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4c2b"/>
                </a:solidFill>
                <a:latin typeface="Times New Roman"/>
              </a:rPr>
              <a:t>В СЛАЙД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276720" y="2133720"/>
          <a:ext cx="2130480" cy="30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2133720"/>
                    <a:ext cx="213048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380880" y="3733920"/>
            <a:ext cx="2438640" cy="1066680"/>
          </a:xfrm>
          <a:prstGeom prst="wedgeEllipseCallout">
            <a:avLst>
              <a:gd name="adj1" fmla="val 69662"/>
              <a:gd name="adj2" fmla="val -175444"/>
            </a:avLst>
          </a:prstGeom>
          <a:solidFill>
            <a:srgbClr val="ffcc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993300"/>
                </a:solidFill>
                <a:latin typeface="Times New Roman"/>
              </a:rPr>
              <a:t>От менюто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 Narrow"/>
              </a:rPr>
              <a:t>Slide Show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1828800"/>
            <a:ext cx="3352680" cy="2133720"/>
          </a:xfrm>
          <a:prstGeom prst="wedgeEllipseCallout">
            <a:avLst>
              <a:gd name="adj1" fmla="val -56250"/>
              <a:gd name="adj2" fmla="val 54912"/>
            </a:avLst>
          </a:prstGeom>
          <a:solidFill>
            <a:srgbClr val="ffcc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993300"/>
                </a:solidFill>
                <a:latin typeface="Times New Roman"/>
              </a:rPr>
              <a:t>Изберете команда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 Narrow"/>
              </a:rPr>
              <a:t>Custom Animation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600"/>
                            </p:stCondLst>
                            <p:childTnLst>
                              <p:par>
                                <p:cTn id="154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 rot="20337600">
            <a:off x="914400" y="2590560"/>
            <a:ext cx="1981080" cy="838080"/>
          </a:xfrm>
          <a:prstGeom prst="wedgeRoundRectCallout">
            <a:avLst>
              <a:gd name="adj1" fmla="val 76805"/>
              <a:gd name="adj2" fmla="val -50819"/>
              <a:gd name="adj3" fmla="val 16667"/>
            </a:avLst>
          </a:prstGeom>
          <a:solidFill>
            <a:srgbClr val="ffcc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333333"/>
                </a:solidFill>
                <a:latin typeface="Times New Roman"/>
              </a:rPr>
              <a:t>Избери ефекти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3962520"/>
            <a:ext cx="685800" cy="304560"/>
          </a:xfrm>
          <a:prstGeom prst="ellipse">
            <a:avLst/>
          </a:prstGeom>
          <a:noFill/>
          <a:ln cap="sq"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219320"/>
            <a:ext cx="2133720" cy="7617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333333"/>
                </a:solidFill>
                <a:latin typeface="Times New Roman"/>
              </a:rPr>
              <a:t>Избери обек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bg-BG" sz="2400" spc="-1" strike="noStrike">
                <a:solidFill>
                  <a:srgbClr val="333333"/>
                </a:solidFill>
                <a:latin typeface="Times New Roman"/>
              </a:rPr>
              <a:t>на анимация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124080" y="1676520"/>
            <a:ext cx="2382840" cy="4681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00400" y="838080"/>
            <a:ext cx="1752480" cy="685800"/>
          </a:xfrm>
          <a:prstGeom prst="wedgeRoundRectCallout">
            <a:avLst>
              <a:gd name="adj1" fmla="val 60870"/>
              <a:gd name="adj2" fmla="val 132175"/>
              <a:gd name="adj3" fmla="val 16667"/>
            </a:avLst>
          </a:prstGeom>
          <a:solidFill>
            <a:srgbClr val="ffcc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33"/>
                </a:solidFill>
                <a:latin typeface="Times New Roman"/>
              </a:rPr>
              <a:t>Изтриване на ефектите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4724280"/>
            <a:ext cx="1981440" cy="685800"/>
          </a:xfrm>
          <a:prstGeom prst="wedgeRoundRectCallout">
            <a:avLst>
              <a:gd name="adj1" fmla="val -31652"/>
              <a:gd name="adj2" fmla="val 86342"/>
              <a:gd name="adj3" fmla="val 16667"/>
            </a:avLst>
          </a:prstGeom>
          <a:solidFill>
            <a:srgbClr val="ffcc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33333"/>
                </a:solidFill>
                <a:latin typeface="Times New Roman"/>
              </a:rPr>
              <a:t>Промени реда на представяне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5105520"/>
            <a:ext cx="2057400" cy="685800"/>
          </a:xfrm>
          <a:prstGeom prst="wedgeRoundRectCallout">
            <a:avLst>
              <a:gd name="adj1" fmla="val 72300"/>
              <a:gd name="adj2" fmla="val 110879"/>
              <a:gd name="adj3" fmla="val 16667"/>
            </a:avLst>
          </a:prstGeom>
          <a:solidFill>
            <a:srgbClr val="ffcc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33333"/>
                </a:solidFill>
                <a:latin typeface="Times New Roman"/>
              </a:rPr>
              <a:t>Тества ефектите в слайд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2590920"/>
            <a:ext cx="2362320" cy="1295280"/>
          </a:xfrm>
          <a:prstGeom prst="cloudCallout">
            <a:avLst>
              <a:gd name="adj1" fmla="val -75337"/>
              <a:gd name="adj2" fmla="val -42157"/>
            </a:avLst>
          </a:prstGeom>
          <a:solidFill>
            <a:srgbClr val="ffcc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333333"/>
                </a:solidFill>
                <a:latin typeface="Times New Roman"/>
              </a:rPr>
              <a:t>Кога да се яви следващия елемент в слайда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	</a:t>
            </a: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996633"/>
                </a:solidFill>
                <a:latin typeface="Tahoma"/>
              </a:rPr>
              <a:t>Animation Sche</a:t>
            </a:r>
            <a:r>
              <a:rPr b="1" lang="bg-BG" sz="3200" spc="-1" strike="noStrike">
                <a:solidFill>
                  <a:srgbClr val="996633"/>
                </a:solidFill>
                <a:latin typeface="Tahoma"/>
              </a:rPr>
              <a:t>ме</a:t>
            </a:r>
            <a:r>
              <a:rPr b="1" lang="en-US" sz="3200" spc="-1" strike="noStrike">
                <a:solidFill>
                  <a:srgbClr val="996633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предлага списък с готови схеми за анимиране на всички обекти в слайд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4c2b"/>
                </a:solidFill>
                <a:latin typeface="Tahoma"/>
              </a:rPr>
              <a:t>Бутони за действия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0769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Чрез </a:t>
            </a:r>
            <a:r>
              <a:rPr b="1" lang="en-US" sz="3200" spc="-1" strike="noStrike">
                <a:solidFill>
                  <a:srgbClr val="333333"/>
                </a:solidFill>
                <a:latin typeface="Tahoma"/>
              </a:rPr>
              <a:t>Action Buttons</a:t>
            </a: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може да се стартира програм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333333"/>
                </a:solidFill>
                <a:latin typeface="Tahoma"/>
              </a:rPr>
              <a:t>или да се задейства хипервръзк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previousslide"/>
          </p:cNvPr>
          <p:cNvSpPr/>
          <p:nvPr/>
        </p:nvSpPr>
        <p:spPr>
          <a:xfrm>
            <a:off x="7315200" y="3505320"/>
            <a:ext cx="1447920" cy="99036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1576" h="21600">
                <a:moveTo>
                  <a:pt x="0" y="0"/>
                </a:moveTo>
                <a:lnTo>
                  <a:pt x="31576" y="0"/>
                </a:lnTo>
                <a:lnTo>
                  <a:pt x="31576" y="21600"/>
                </a:lnTo>
                <a:lnTo>
                  <a:pt x="0" y="21600"/>
                </a:lnTo>
                <a:close/>
              </a:path>
              <a:path fill="lightenLess" w="31576" h="21600">
                <a:moveTo>
                  <a:pt x="0" y="0"/>
                </a:moveTo>
                <a:lnTo>
                  <a:pt x="31576" y="0"/>
                </a:lnTo>
                <a:lnTo>
                  <a:pt x="30176" y="1400"/>
                </a:lnTo>
                <a:lnTo>
                  <a:pt x="1400" y="1400"/>
                </a:lnTo>
                <a:close/>
              </a:path>
              <a:path fill="darken" w="31576" h="21600">
                <a:moveTo>
                  <a:pt x="31576" y="0"/>
                </a:moveTo>
                <a:lnTo>
                  <a:pt x="31576" y="21600"/>
                </a:lnTo>
                <a:lnTo>
                  <a:pt x="30176" y="20200"/>
                </a:lnTo>
                <a:lnTo>
                  <a:pt x="30176" y="1400"/>
                </a:lnTo>
                <a:close/>
              </a:path>
              <a:path fill="darkenLess" w="31576" h="21600">
                <a:moveTo>
                  <a:pt x="31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76" y="20200"/>
                </a:lnTo>
                <a:close/>
              </a:path>
              <a:path fill="lighten" w="31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Previou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>
            <a:hlinkClick r:id="rId2"/>
          </p:cNvPr>
          <p:cNvSpPr/>
          <p:nvPr/>
        </p:nvSpPr>
        <p:spPr>
          <a:xfrm>
            <a:off x="7010280" y="2666880"/>
            <a:ext cx="1524240" cy="609840"/>
          </a:xfrm>
          <a:custGeom>
            <a:avLst/>
            <a:gdLst>
              <a:gd name="textAreaLeft" fmla="*/ 39240 w 1524240"/>
              <a:gd name="textAreaRight" fmla="*/ 1485000 w 15242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53968" h="21600">
                <a:moveTo>
                  <a:pt x="0" y="0"/>
                </a:moveTo>
                <a:lnTo>
                  <a:pt x="53968" y="0"/>
                </a:lnTo>
                <a:lnTo>
                  <a:pt x="53968" y="21600"/>
                </a:lnTo>
                <a:lnTo>
                  <a:pt x="0" y="21600"/>
                </a:lnTo>
                <a:close/>
              </a:path>
              <a:path fill="lightenLess" w="53968" h="21600">
                <a:moveTo>
                  <a:pt x="0" y="0"/>
                </a:moveTo>
                <a:lnTo>
                  <a:pt x="53968" y="0"/>
                </a:lnTo>
                <a:lnTo>
                  <a:pt x="52568" y="1400"/>
                </a:lnTo>
                <a:lnTo>
                  <a:pt x="1400" y="1400"/>
                </a:lnTo>
                <a:close/>
              </a:path>
              <a:path fill="darken" w="53968" h="21600">
                <a:moveTo>
                  <a:pt x="53968" y="0"/>
                </a:moveTo>
                <a:lnTo>
                  <a:pt x="53968" y="21600"/>
                </a:lnTo>
                <a:lnTo>
                  <a:pt x="52568" y="20200"/>
                </a:lnTo>
                <a:lnTo>
                  <a:pt x="52568" y="1400"/>
                </a:lnTo>
                <a:close/>
              </a:path>
              <a:path fill="darkenLess" w="53968" h="21600">
                <a:moveTo>
                  <a:pt x="539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68" y="20200"/>
                </a:lnTo>
                <a:close/>
              </a:path>
              <a:path fill="lighten" w="539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alculato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9T15:00:36Z</dcterms:created>
  <dc:creator>AMD2000</dc:creator>
  <dc:description/>
  <dc:language>en-US</dc:language>
  <cp:lastModifiedBy>bbb</cp:lastModifiedBy>
  <dcterms:modified xsi:type="dcterms:W3CDTF">2005-08-31T08:33:14Z</dcterms:modified>
  <cp:revision>29</cp:revision>
  <dc:subject/>
  <dc:title>Настройване на презентация </dc:title>
</cp:coreProperties>
</file>